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C547-E598-4D9C-8E91-F7D5705A6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Tech results for AUVS-Sponsored International Ground Vehicle Competition starting in 1996 under Prof. Charlie Reinholtz. Many of these student members are now employed at TORC, a startup company out of V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F8B7-4B21-48A0-BC30-7508C31D9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F8B8-A5F0-4624-A324-E2F174559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B0B-DCBC-479B-B7DA-D1BF3EC5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365-E821-4E61-BEBE-520C7578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027-45AA-4AA3-974D-78225117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DE6-DC11-4560-8692-97A83A89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63B-3FA1-4A2E-AF46-C6C9E0B9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375-8224-435E-BFAD-2032C919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678-B02D-42D1-BE02-CB92DCE1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FE6-88E2-4F5D-B774-4E46DC4F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FA5-F0B4-445C-859B-3787391F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DCE-FA61-4452-9A83-40EA44E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281-B1FF-45D9-BB1E-06CFC37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7B4-1876-4804-8A65-38B91481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0BC6-6389-4B1E-BFAB-CCBDC4AE3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VIEW for F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ng Island Software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c 13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bert.berger@ni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Image:Labview-logo.png"/>
          <p:cNvPicPr/>
          <p:nvPr/>
        </p:nvPicPr>
        <p:blipFill>
          <a:blip r:embed="rId1"/>
          <a:srcRect l="0" t="0" r="76005" b="4006"/>
          <a:stretch/>
        </p:blipFill>
        <p:spPr>
          <a:xfrm>
            <a:off x="457200" y="4648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usfirst.org/uploadedImages/Community/FRC/FRC_Communications_Resource_Center/Communication_Assets/thumb_FRClogo_color_rgb.jpg"/>
          <p:cNvPicPr/>
          <p:nvPr/>
        </p:nvPicPr>
        <p:blipFill>
          <a:blip r:embed="rId2"/>
          <a:stretch/>
        </p:blipFill>
        <p:spPr>
          <a:xfrm>
            <a:off x="6541920" y="4800600"/>
            <a:ext cx="2097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Virginia Tech (TORC) successes using LabVIEW in Autonomous System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33520" y="1371600"/>
            <a:ext cx="3124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esults of IGVC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6 –- Did not pla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7 –-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la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8 –- Did no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9 –-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0 –-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1 –-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2 –- Did no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3" descr="contentimage"/>
          <p:cNvPicPr/>
          <p:nvPr/>
        </p:nvPicPr>
        <p:blipFill>
          <a:blip r:embed="rId1"/>
          <a:stretch/>
        </p:blipFill>
        <p:spPr>
          <a:xfrm>
            <a:off x="1447920" y="3733920"/>
            <a:ext cx="1447560" cy="353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9" name="Rectangle 49"/>
          <p:cNvSpPr/>
          <p:nvPr/>
        </p:nvSpPr>
        <p:spPr>
          <a:xfrm>
            <a:off x="533520" y="42051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3 -– 1s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533520" y="4510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4 –- 1st 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533520" y="4815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5 –- 1s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3"/>
          <p:cNvSpPr/>
          <p:nvPr/>
        </p:nvSpPr>
        <p:spPr>
          <a:xfrm>
            <a:off x="533520" y="51195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 –- 1s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533520" y="5424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7 –- 1s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5"/>
          <p:cNvSpPr/>
          <p:nvPr/>
        </p:nvSpPr>
        <p:spPr>
          <a:xfrm>
            <a:off x="1295280" y="1752480"/>
            <a:ext cx="0" cy="41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6"/>
          <p:cNvSpPr/>
          <p:nvPr/>
        </p:nvSpPr>
        <p:spPr>
          <a:xfrm>
            <a:off x="1219320" y="3809880"/>
            <a:ext cx="15228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7"/>
          <p:cNvSpPr/>
          <p:nvPr/>
        </p:nvSpPr>
        <p:spPr>
          <a:xfrm>
            <a:off x="1295280" y="388620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2"/>
          <p:cNvSpPr/>
          <p:nvPr/>
        </p:nvSpPr>
        <p:spPr>
          <a:xfrm>
            <a:off x="152280" y="36576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 of Lab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ww.igvc.org/photos/images/4907.jpg"/>
          <p:cNvPicPr/>
          <p:nvPr/>
        </p:nvPicPr>
        <p:blipFill>
          <a:blip r:embed="rId2"/>
          <a:stretch/>
        </p:blipFill>
        <p:spPr>
          <a:xfrm>
            <a:off x="3352680" y="1905120"/>
            <a:ext cx="5639040" cy="3751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4"/>
          <p:cNvSpPr/>
          <p:nvPr/>
        </p:nvSpPr>
        <p:spPr>
          <a:xfrm>
            <a:off x="3434760" y="59436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gvc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VIEW for Everyone – Travis &amp; K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with LabVIEW – Robert Bi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VIEW for LEGO MINDSTORMS NXT - Michael Gasp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.com/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bVIEW for FR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 DVDs ship with the K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don’t need to load bo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k 1 = LabVIE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k 2 = Windriver C+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sion 8.5.1 which is not the latest 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usfirst.org/frccontrol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bVIEW FRC software update - VERY IMPOR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rol System M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/W and S/W Docu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don’t have your kit – use LabVIEW Evaluation Cop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 On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first, please do what I do… don’t st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Carefully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-click” vs. “right-cli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&amp; release” vs. “click &amp; hol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se your hand … shout “Help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to the New Contro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VIEW Ba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tle LabVIEW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else LabVIEW might be able to do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s On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VIEW Project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PI Robotics Libraries for Lab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LabVIE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tool used by scientists and engineers to measure and automate the universe around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graphical programming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gram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t is a programming language and you won’t be an expert in a day or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phic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you draw your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t is more than measurement and automation, it has analysis and user interface capabilities created for scientists and engin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4386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Instruments (V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VIEW = Laboratory Virtual Instrumentation Engineering Workb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s are called VIs (vee-eyes), they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3321000" cy="3119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679040" y="6400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809880" cy="3125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6026760" y="6400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 / Car Analogy – Front Pan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ront Panel is like the driver’s cockp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s or Inputs to the c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nition Key, Shifter, Gas Pedal, Brak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ors or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edometer, Tachometer, Fuel Gaug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s to the engine compar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media.automotive.com/evox/stilllib/porsche/cayenne/2008/5od-4/59.jpg"/>
          <p:cNvPicPr/>
          <p:nvPr/>
        </p:nvPicPr>
        <p:blipFill>
          <a:blip r:embed="rId1"/>
          <a:srcRect l="0" t="0" r="39624" b="-614"/>
          <a:stretch/>
        </p:blipFill>
        <p:spPr>
          <a:xfrm>
            <a:off x="5867280" y="2133720"/>
            <a:ext cx="2925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 / Car Analogy – Block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lock Diagram is like the engine com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ine, alternator, battery, sensors, control modul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s, Tubes and H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s everything tog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s to driver’s cockp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Dart Pro 1 Heads smallblock 350"/>
          <p:cNvPicPr/>
          <p:nvPr/>
        </p:nvPicPr>
        <p:blipFill>
          <a:blip r:embed="rId1"/>
          <a:srcRect l="18826" t="0" r="17181" b="2248"/>
          <a:stretch/>
        </p:blipFill>
        <p:spPr>
          <a:xfrm>
            <a:off x="5486400" y="1905120"/>
            <a:ext cx="340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VIEW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86 - Premiered on a Macinto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mainly automated electronic instruments – oscilloscopes, multimeters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92 - Ported to MS Window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97 - Ported to a Real Time 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by several Universities and Companies in various robotics compet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 Tech started using it in 2003 – They finished in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lace at the Urban Grand Challenge – late 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99 - Robolab was introduced by LEGO &amp; Tufts Uni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006 - Ported to run on a LEGO MINDSTORMS NX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008/9 – LabVIEW FTC and FR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LabVIEW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udents Projects with LEGO N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’ll see it in many collegiate engineering &amp; science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NXT-G blocks for your favorite FLL or FTC team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Lead the W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finity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s with your Vernier Sens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300680" y="6211800"/>
            <a:ext cx="34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* You’ll need LabVIEW Version 7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LabVIEW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s from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 Control – GPIB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Automation – PLCs, HMI, SC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hine 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 FP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bedded Targets – ADI Blackfin, ARM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 Engine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20:30:02Z</dcterms:created>
  <dc:creator>NI</dc:creator>
  <dc:description/>
  <dc:language>en-US</dc:language>
  <cp:lastModifiedBy>robert</cp:lastModifiedBy>
  <dcterms:modified xsi:type="dcterms:W3CDTF">2008-12-15T15:39:34Z</dcterms:modified>
  <cp:revision>57</cp:revision>
  <dc:subject/>
  <dc:title>LabVIEW for FTC</dc:title>
</cp:coreProperties>
</file>