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2640-5A2A-498A-B19E-E72689574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Tech results for AUVS-Sponsored International Ground Vehicle Competition starting in 1996 under Prof. Charlie Reinholtz. Many of these student members are now employed at TORC, a startup company out of V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D63-A186-4F85-9D4F-21FFA1514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846-A9A4-44EB-A863-6342CCC98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C29-A37D-423A-9956-F78FE84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2BC-D880-4286-A0E7-D72D4C5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28F-F2C9-4BB9-A4F0-4E171A91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989-681D-4F19-8FF7-AF57F0D7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A4C-7CC7-4FB2-9B31-18C25FD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6A0-8234-48B7-B8CE-1F60966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3DB-70A9-498C-A382-96154675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217-132A-4B2B-9EE2-4C8D59A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768-1D4F-4A25-8CBD-7FB07BF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A2A-2CDD-4325-9122-3CAC1E3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12E-859F-453F-9C79-797A1BF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0DD-EE24-41F3-A822-954C132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9A2-9119-4D2D-891C-5E1626FD3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VIEW for F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ng Island Software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 13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bert.berger@n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mage:Labview-logo.png"/>
          <p:cNvPicPr/>
          <p:nvPr/>
        </p:nvPicPr>
        <p:blipFill>
          <a:blip r:embed="rId1"/>
          <a:srcRect l="0" t="0" r="76005" b="4006"/>
          <a:stretch/>
        </p:blipFill>
        <p:spPr>
          <a:xfrm>
            <a:off x="457200" y="4648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usfirst.org/uploadedImages/Community/FRC/FRC_Communications_Resource_Center/Communication_Assets/thumb_FRClogo_color_rgb.jpg"/>
          <p:cNvPicPr/>
          <p:nvPr/>
        </p:nvPicPr>
        <p:blipFill>
          <a:blip r:embed="rId2"/>
          <a:stretch/>
        </p:blipFill>
        <p:spPr>
          <a:xfrm>
            <a:off x="6541920" y="4800600"/>
            <a:ext cx="209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Virginia Tech (TORC) successes using LabVIEW in Autonomous System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3520" y="13716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sults of IGVC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6 –- Did not pl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7 –-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8 –- Did no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9 –-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0 –-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1 –-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2 –- Did no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3" descr="contentimage"/>
          <p:cNvPicPr/>
          <p:nvPr/>
        </p:nvPicPr>
        <p:blipFill>
          <a:blip r:embed="rId1"/>
          <a:stretch/>
        </p:blipFill>
        <p:spPr>
          <a:xfrm>
            <a:off x="1447920" y="3733920"/>
            <a:ext cx="1447560" cy="353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9" name="Rectangle 49"/>
          <p:cNvSpPr/>
          <p:nvPr/>
        </p:nvSpPr>
        <p:spPr>
          <a:xfrm>
            <a:off x="533520" y="4205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 -–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533520" y="45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4 –- 1st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533520" y="48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5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3"/>
          <p:cNvSpPr/>
          <p:nvPr/>
        </p:nvSpPr>
        <p:spPr>
          <a:xfrm>
            <a:off x="533520" y="5119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533520" y="5424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7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5"/>
          <p:cNvSpPr/>
          <p:nvPr/>
        </p:nvSpPr>
        <p:spPr>
          <a:xfrm>
            <a:off x="1295280" y="175248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6"/>
          <p:cNvSpPr/>
          <p:nvPr/>
        </p:nvSpPr>
        <p:spPr>
          <a:xfrm>
            <a:off x="1219320" y="380988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1295280" y="388620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152280" y="3657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of Lab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igvc.org/photos/images/4907.jpg"/>
          <p:cNvPicPr/>
          <p:nvPr/>
        </p:nvPicPr>
        <p:blipFill>
          <a:blip r:embed="rId2"/>
          <a:stretch/>
        </p:blipFill>
        <p:spPr>
          <a:xfrm>
            <a:off x="3352680" y="1905120"/>
            <a:ext cx="5639040" cy="3751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3434760" y="5943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gvc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VIEW for Everyone – Travis &amp; K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with LabVIEW – Robert Bi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VIEW for LEGO MINDSTORMS NXT - Michael Gasp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.com/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VIEW for FR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DVDs ship with the K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don’t need to load bo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k 1 = LabVI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k 2 = Windriver C+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8.5.1 which is not the latest 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usfirst.org/frccontrol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bVIEW FRC software update - VERY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ol System M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/W and S/W 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don’t have your kit – use LabVIEW Evaluation Co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first, please do what I do… don’t st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Carefull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-click” vs. “right-cli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&amp; release” vs. “click &amp; hol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se your hand … shout “Help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to the New Contr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LabVIEW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lse LabVIEW might be able to do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 On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Projec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I Robotics Libraries for Lab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LabVIE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tool used by scientists and engineers to measure and automate the universe around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graphical programm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t is a programming language and you won’t be an expert in a day o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ph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you draw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t is more than measurement and automation, it has analysis and user interface capabilities created for scientists and engin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4386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Instruments (V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= Laboratory Virtual Instrumentation Engineering Workb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s are called VIs (vee-eyes), they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321000" cy="3119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679040" y="6400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09880" cy="312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026760" y="6400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 / Car Analogy – Front Pa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ront Panel is like the driver’s cockp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or Inputs to the 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nition Key, Shifter, Gas Pedal, Brak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ors or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edometer, Tachometer, Fuel Gaug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to the engine com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media.automotive.com/evox/stilllib/porsche/cayenne/2008/5od-4/59.jpg"/>
          <p:cNvPicPr/>
          <p:nvPr/>
        </p:nvPicPr>
        <p:blipFill>
          <a:blip r:embed="rId1"/>
          <a:srcRect l="0" t="0" r="39624" b="-614"/>
          <a:stretch/>
        </p:blipFill>
        <p:spPr>
          <a:xfrm>
            <a:off x="5867280" y="2133720"/>
            <a:ext cx="2925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 / Car Analogy – Block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lock Diagram is like the engine com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ine, alternator, battery, sensors, control modu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s, Tubes and H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s everything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to driver’s cockp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Dart Pro 1 Heads smallblock 350"/>
          <p:cNvPicPr/>
          <p:nvPr/>
        </p:nvPicPr>
        <p:blipFill>
          <a:blip r:embed="rId1"/>
          <a:srcRect l="18826" t="0" r="17181" b="2248"/>
          <a:stretch/>
        </p:blipFill>
        <p:spPr>
          <a:xfrm>
            <a:off x="5486400" y="1905120"/>
            <a:ext cx="340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VIEW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86 - Premiered on a Macinto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mainly automated electronic instruments – oscilloscopes, multimeters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2 - Ported to MS Window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7 - Ported to a Real Time 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by several Universities and Companies in various robotics compet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 Tech started using it in 2003 – They finished i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lace at the Urban Grand Challenge – late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9 - Robolab was introduced by LEGO &amp; Tufts Uni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06 - Ported to run on a LEGO MINDSTORMS N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08/9 – LabVIEW FTC and FR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LabVIEW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Projects with LEGO N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’ll see it in many collegiate engineering &amp; science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NXT-G blocks for your favorite FLL or FTC team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Lead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finity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s with your Vernier Sens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300680" y="62118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* You’ll need LabVIEW Version 7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LabVIEW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s from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Control – GPIB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Automation – PLCs, HMI, S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 FP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edded Targets – ADI Blackfin, ARM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0:30:02Z</dcterms:created>
  <dc:creator>NI</dc:creator>
  <dc:description/>
  <dc:language>en-US</dc:language>
  <cp:lastModifiedBy>robert</cp:lastModifiedBy>
  <dcterms:modified xsi:type="dcterms:W3CDTF">2008-12-15T15:39:34Z</dcterms:modified>
  <cp:revision>57</cp:revision>
  <dc:subject/>
  <dc:title>LabVIEW for FTC</dc:title>
</cp:coreProperties>
</file>