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png" ContentType="image/png"/>
  <Override PartName="/ppt/media/image28.png" ContentType="image/pn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6.png" ContentType="image/png"/>
  <Override PartName="/ppt/media/image31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CD13-7B9B-473D-83E0-6EBA3009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4DD7-08FC-4FF4-9D54-CAA749E3C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451-1F49-42EF-8D73-EE911257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410-EAB8-4FF1-8873-4776D0FE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9EEA-527E-48A8-A7DC-352BD670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F6EE-E4CD-44FA-A4CD-B56ABA2B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BFBB-1114-493B-A6D3-F9B03C61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8B2AD-316B-42F8-AAD0-0986A33F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C2EFC-0A58-404D-B10B-B6D91F2DE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339B6-6CCD-45B7-BDF0-C1C8B778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83211-2F93-4EB1-92A0-ABAFC068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59FB-5B4F-4B10-A38E-63BD56E5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E4B0D-4F9F-4A28-B1A7-414658F4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2F66-2DD4-4CBB-8B5E-1F737302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8CD6-1180-4461-8171-A0218E3E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E30F-9CDA-4EF1-B4EF-489B77A4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26A2-FDE6-4F19-9616-BD7802CB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8C323-9217-42E3-AFDD-DA694B68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6ECEC-53D1-48CE-ACEA-84DC090D9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3031-B70D-4B8A-9FB7-43BAC62B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88642-C395-4412-B4E5-9B2478C6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C1E73-8E58-4C47-A756-60F43829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2720-A10B-4800-9F38-20F64287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B49FD-00D2-41F3-B7F6-30C00EDE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B29C8-5AAD-4E89-B2E2-98703B8F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C9D5B-4FD2-477B-9F06-1889463E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A3F38-2881-45C9-9F73-240BCC1E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414C7-45CF-4B86-B306-B02EBBA54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ED1C7-1FD0-4C6C-B5F7-66587DAD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3072-4E39-480D-90AE-0B599113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09AB-3137-4517-9332-115113B61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F6C-10E3-4C31-9A51-E500DF70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9D0-1DB6-4F46-8FAA-8BA6FA76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7191-3200-469A-A585-870A882E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0547-6C10-4A74-99E1-253B146E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3D8-9193-471C-99D9-781446BB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9ECC-3E88-42D4-9476-713C7F040B2B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Team358.gif"/>
          <p:cNvPicPr/>
          <p:nvPr/>
        </p:nvPicPr>
        <p:blipFill>
          <a:blip r:embed="rId3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7BDF-4FD0-441F-8600-6AA0D7ACF2F0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69A2-AA61-4820-9916-6C4673B5CF52}" type="slidenum">
              <a:rPr b="0" lang="en-US" sz="1200" spc="-1" strike="noStrike">
                <a:solidFill>
                  <a:srgbClr val="bcbcbc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15.png"/><Relationship Id="rId5" Type="http://schemas.openxmlformats.org/officeDocument/2006/relationships/image" Target="../media/image14.jpe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2012 Control System Chang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Version 3j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2/4/12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6" name="Picture 3" descr="Team358.gif"/>
          <p:cNvPicPr/>
          <p:nvPr/>
        </p:nvPicPr>
        <p:blipFill>
          <a:blip r:embed="rId2"/>
          <a:stretch/>
        </p:blipFill>
        <p:spPr>
          <a:xfrm>
            <a:off x="3780000" y="4653000"/>
            <a:ext cx="14302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nalo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puts on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digital in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git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puts &amp;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WM, Digital I/O, I2C, Relay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solenoid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03640" indent="-3780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enoi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utputs onl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an power sensors via protected 24v sour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98840" indent="-25992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ossible to use in lieu of digital output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057760" y="228600"/>
            <a:ext cx="48394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9676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eb966"/>
                </a:solidFill>
                <a:latin typeface="Arial"/>
              </a:rPr>
              <a:t>Module Tradeof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6" descr="FPGAphoto"/>
          <p:cNvPicPr/>
          <p:nvPr/>
        </p:nvPicPr>
        <p:blipFill>
          <a:blip r:embed="rId1"/>
          <a:stretch/>
        </p:blipFill>
        <p:spPr>
          <a:xfrm>
            <a:off x="7315200" y="1600200"/>
            <a:ext cx="1828800" cy="1560600"/>
          </a:xfrm>
          <a:prstGeom prst="rect">
            <a:avLst/>
          </a:prstGeom>
          <a:ln w="0">
            <a:noFill/>
          </a:ln>
        </p:spPr>
      </p:pic>
      <p:pic>
        <p:nvPicPr>
          <p:cNvPr id="201" name="Title 1" descr=""/>
          <p:cNvPicPr/>
          <p:nvPr/>
        </p:nvPicPr>
        <p:blipFill>
          <a:blip r:embed="rId2"/>
          <a:stretch/>
        </p:blipFill>
        <p:spPr>
          <a:xfrm>
            <a:off x="457200" y="-139680"/>
            <a:ext cx="8242200" cy="14320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0" y="2743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25600" indent="-3945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eld Programmable Gate Arra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Huge collection of yes/no &amp; sequential logic blocks in a massive routing gri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Logic cells combine multiple inputs in boolean way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Flip-flops &amp; registers are used for sequential logic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3" marL="1298160" indent="-174960">
              <a:spcBef>
                <a:spcPts val="4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ll connected by reconfigurable wires via programmable switch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ield Programmable just means the function of the board is defined by our program image, not when the hardware is mad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2" marL="1088280" indent="-21924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t trades custom chip efficiency (size, power, performance), e.g., cell phone,  for adaptability and different cost factors, e.g., cell phone base station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Where are FPGAs found around the house?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udio/Video (signal processing) - PC, TV, entertainment system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Automotive infotainment system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4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Wireless base stations keeping up with rapidly evolving cell phone featur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3" name="Content Placeholder 2"/>
          <p:cNvSpPr/>
          <p:nvPr/>
        </p:nvSpPr>
        <p:spPr>
          <a:xfrm>
            <a:off x="0" y="12193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112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OT a computer processor like a Pentium or PowerP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11120" indent="-411120">
              <a:lnSpc>
                <a:spcPct val="10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Sort of a generic reconfigurable custom digital (not analog) circu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Programming it is like doing a circuit desig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FRC uses it for super fast data input collection and 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5092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  <a:ea typeface="ＭＳ Ｐゴシック"/>
              </a:rPr>
              <a:t>Teams do not touch it directly, only download updated FRC imag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228600" y="1981080"/>
            <a:ext cx="3962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RIO FRC II adds a protective  conformal coating to the electronics helping to guard against metal dust and fragments that work their way into the case from shorting out the circui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original cRIO FRC had user installable gaskets that many teams never used or even knew what they were f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2" descr="G:\FIRST\Technical\ControlSystemPost2009\cRIO FRC II\ConformalCoating2.jpg"/>
          <p:cNvPicPr/>
          <p:nvPr/>
        </p:nvPicPr>
        <p:blipFill>
          <a:blip r:embed="rId2"/>
          <a:stretch/>
        </p:blipFill>
        <p:spPr>
          <a:xfrm>
            <a:off x="4191120" y="1523880"/>
            <a:ext cx="4632120" cy="2676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G:\FIRST\Technical\ControlSystemPost2009\cRIO FRC II\cRIOgaskets.jpg"/>
          <p:cNvPicPr/>
          <p:nvPr/>
        </p:nvPicPr>
        <p:blipFill>
          <a:blip r:embed="rId3"/>
          <a:stretch/>
        </p:blipFill>
        <p:spPr>
          <a:xfrm>
            <a:off x="1676520" y="5029200"/>
            <a:ext cx="278136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3"/>
          <p:cNvSpPr/>
          <p:nvPr/>
        </p:nvSpPr>
        <p:spPr>
          <a:xfrm>
            <a:off x="76320" y="2590920"/>
            <a:ext cx="9067680" cy="2562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pec Lin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-9074 (old) : http://sine.ni.com/nips/cds/view/p/lang/en/nid/2039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-9076 (new-similar) : http://sine.ni.com/nips/cds/view/p/lang/en/nid/20975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RIO 9075/9076 Specs: http://www.ni.com/pdf/manuals/375650a.pd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arison Tables: http://sine.ni.com/ds/app/doc/p/id/ds-204/lang/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escale Processor Cor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C II: http://cache.freescale.com/files/32bit/doc/ref_manual/e300coreRM.pd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C I: http://www.iuma.ulpgc.es/~nunez/clases-sed-mai-68ppc/powerpc_MPC603EUM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5" descr="Team358.gif"/>
          <p:cNvPicPr/>
          <p:nvPr/>
        </p:nvPicPr>
        <p:blipFill>
          <a:blip r:embed="rId2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2280960" y="5229360"/>
            <a:ext cx="5144040" cy="1191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J Regional NI Survey of extra modules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% of teams (5) used an extra Digital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% of teams (2) used an extra Analog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% of teams (2) used an extra Solenoid modu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613440" y="6488280"/>
            <a:ext cx="52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Photo credit for new cRIO FRC II- Arthur Dutra 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543960" y="1371600"/>
            <a:ext cx="7392240" cy="642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rranty on cRIO units are 3-years from the day the unit ships from N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I FRC 2 cRIO FAQ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s://decibel.ni.com/content/docs/DOC-191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51920" y="1218960"/>
            <a:ext cx="8991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dules &amp; breakou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But old module slot positions have chang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ogramming-LV,C++,Java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PILib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649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light modifications to make it easier to write portable code between the four and eight slot controllers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PGA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698760" indent="-196560">
              <a:spcBef>
                <a:spcPts val="550"/>
              </a:spcBef>
              <a:buClr>
                <a:srgbClr val="ffffff"/>
              </a:buClr>
              <a:buSzPct val="9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Model is new, but the FRC design circuit (hence behavior) will be the same for both cRIO FRC I&amp;II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owered for competition via the protected 24v output on the Power Distribution Pan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70880" indent="-243000">
              <a:spcBef>
                <a:spcPts val="700"/>
              </a:spcBef>
              <a:buClr>
                <a:srgbClr val="f9f9f9"/>
              </a:buClr>
              <a:buSzPct val="6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arranty is 3-years from the NI ship da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4" descr="sm_AnalogModule.jpg"/>
          <p:cNvPicPr/>
          <p:nvPr/>
        </p:nvPicPr>
        <p:blipFill>
          <a:blip r:embed="rId2"/>
          <a:stretch/>
        </p:blipFill>
        <p:spPr>
          <a:xfrm>
            <a:off x="6705720" y="990720"/>
            <a:ext cx="20844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0" y="990720"/>
            <a:ext cx="914400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Hardware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Half the slots (4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(1) each: analog/digital/solenoid module, plus one extra of the thre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4.4” shorter in length, same height &amp; width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~two thirds the weight –new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Book Antiqua"/>
              </a:rPr>
              <a:t>chassis</a:t>
            </a: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 alone is 1.42 lbs vs. original’s 2.05 lb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ew conformal coating to minimize damage from metal dust and bits and piec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st/Feature Optimized Between cRIO-9075 and cRIO-9076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Processor-2x cache/memory bandwidth (2008 upgrade of the 2003 architecture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Increased Capability (Doubled from FRC I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963360" indent="-19404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torage (512MB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2" marL="963360" indent="-19404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ystem memory (256MB)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No External DIP switches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2" marL="963360" indent="-194040">
              <a:spcBef>
                <a:spcPts val="349"/>
              </a:spcBef>
              <a:buClr>
                <a:srgbClr val="ffffff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Book Antiqua"/>
              </a:rPr>
              <a:t>Same services performed by cRIO Imaging Tool or SAFE MODE via hold Reset button for 5 sec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(1) Ethernet port – cameras get connected to and accessed from the DLink for processing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Power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Two-wire connector (new one can fit the older cRIO, but old 4-wire does not fit new cRIO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9-30v (vs old 19-30v)  operating voltage-24v recommended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15W vs old 20W max power consumption (w/full set of the most power hungry modules)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lvl="1" marL="738000" indent="-240120"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Book Antiqua"/>
              </a:rPr>
              <a:t>cRIO II has no internal battery to preserve the date/time during off state</a:t>
            </a: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4220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0" y="9144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454320" indent="-340920"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454320" indent="-3409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I Software Install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ision - Since the older cRIO has half the memory, and since the vision module has grown substantially in recent LabVIEW releases, the imaging tool installs a simplified version on the 8 slo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76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Smaller, stripped down, version of the Vision package (IMAQ) on the 8-slot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76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The complete edition is installed on the 4-slot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2" marL="940680" indent="-189720">
              <a:spcBef>
                <a:spcPts val="451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features that were removed in the older cRIO FRC I were QR codes, meter reading, OCR, and other instrumentation and inspection features. Another beefy feature that we thought was not needed was the calibration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454320" indent="-3409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IO Image Too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till a single image zip will apply to both cRIO FRC I&amp;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Will handle cRIO FRC I&amp;II differences invisibly by extracting the appropriated files from the image zip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Provide virtual DIP switch controls for cRIO FRC 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720360" indent="-234360">
              <a:spcBef>
                <a:spcPts val="425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Help validate modules are in the correct slots for both FRC I &amp; FRC II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Title 1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6"/>
          <p:cNvSpPr/>
          <p:nvPr/>
        </p:nvSpPr>
        <p:spPr>
          <a:xfrm>
            <a:off x="5726520" y="1628640"/>
            <a:ext cx="27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OLD (2009-2011)-cRIO FRC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685120" y="3913200"/>
            <a:ext cx="239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EW (2012)-cRIO FRC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08000" y="2205000"/>
          <a:ext cx="4824360" cy="3794040"/>
        </p:xfrm>
        <a:graphic>
          <a:graphicData uri="http://schemas.openxmlformats.org/drawingml/2006/table">
            <a:tbl>
              <a:tblPr/>
              <a:tblGrid>
                <a:gridCol w="1336680"/>
                <a:gridCol w="1643040"/>
                <a:gridCol w="1844640"/>
              </a:tblGrid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C cRIO Version Comparis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  FRC II (201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D FRC I (2009-2011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O 9075/907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O 9072/907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# slo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(+2 unusable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S-23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herne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mensions-chas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”(l) x 3.5”(w) x 2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h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4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l) x 3.5”(w) x 2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”(h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-chass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2 lb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5 lb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rating Voltag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-30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-30v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w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W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stem Mem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rage Memor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M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sso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scale MPC512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scale MPC52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data/instr cach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KB/32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KB/16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PG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partan-6 LX4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Spartan-3 2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RAM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88 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0 K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logic cell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,66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,08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multiplier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IO transfer ra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Gb/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2 Mb/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8" name="Picture 10" descr="Team358.gif"/>
          <p:cNvPicPr/>
          <p:nvPr/>
        </p:nvPicPr>
        <p:blipFill>
          <a:blip r:embed="rId2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90"/>
          <p:cNvGrpSpPr/>
          <p:nvPr/>
        </p:nvGrpSpPr>
        <p:grpSpPr>
          <a:xfrm>
            <a:off x="5618160" y="4251240"/>
            <a:ext cx="2514600" cy="2057400"/>
            <a:chOff x="5618160" y="4251240"/>
            <a:chExt cx="2514600" cy="2057400"/>
          </a:xfrm>
        </p:grpSpPr>
        <p:sp>
          <p:nvSpPr>
            <p:cNvPr id="140" name="Rectangle 1088"/>
            <p:cNvSpPr/>
            <p:nvPr/>
          </p:nvSpPr>
          <p:spPr>
            <a:xfrm>
              <a:off x="5618160" y="4251240"/>
              <a:ext cx="2514600" cy="2057400"/>
            </a:xfrm>
            <a:prstGeom prst="rect">
              <a:avLst/>
            </a:prstGeom>
            <a:solidFill>
              <a:srgbClr val="ceb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41" name="Picture 88" descr="cRIO-FRC-II"/>
            <p:cNvPicPr/>
            <p:nvPr/>
          </p:nvPicPr>
          <p:blipFill>
            <a:blip r:embed="rId3"/>
            <a:stretch/>
          </p:blipFill>
          <p:spPr>
            <a:xfrm>
              <a:off x="5715000" y="4343400"/>
              <a:ext cx="2362320" cy="189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Rectangle 1089"/>
          <p:cNvSpPr/>
          <p:nvPr/>
        </p:nvSpPr>
        <p:spPr>
          <a:xfrm>
            <a:off x="5486400" y="2057400"/>
            <a:ext cx="2971800" cy="1523880"/>
          </a:xfrm>
          <a:prstGeom prst="rect">
            <a:avLst/>
          </a:prstGeom>
          <a:solidFill>
            <a:srgbClr val="ceb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89"/>
          <p:cNvSpPr/>
          <p:nvPr/>
        </p:nvSpPr>
        <p:spPr>
          <a:xfrm>
            <a:off x="6000840" y="351936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te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slot configu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90" descr="sm_FRC-cRIO-Modules"/>
          <p:cNvPicPr/>
          <p:nvPr/>
        </p:nvPicPr>
        <p:blipFill>
          <a:blip r:embed="rId4"/>
          <a:stretch/>
        </p:blipFill>
        <p:spPr>
          <a:xfrm>
            <a:off x="5562720" y="2133720"/>
            <a:ext cx="2797200" cy="136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317520" y="109440"/>
            <a:ext cx="8240760" cy="14335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can choose to use either cRIO FRC I or FRC II for the 2012 gam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cRIO FRC II will not be useable until the 2012 Kickoff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Original cRIO FRC I no longer available for purchase after 9/30/11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2" marL="927000" indent="-262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Book Antiqua"/>
              </a:rPr>
              <a:t>It will continue to be supported by NI tech support </a:t>
            </a:r>
            <a:endParaRPr b="0" lang="en-US" sz="15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New conformal coating means less damage from metal dust and fragment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wo slots lost = less potential capability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ut only affects maybe 5% of teams in one way or another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spcBef>
                <a:spcPts val="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Slots 1-3 on the cRIO FRC II are, in order, 1:Analog, 2:Digital, 3:Solenoid. Slot 4 on the cRIO FRC II will be a "wildcard" and one extra Analog, Digital, or Solenoid module may be used. 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spcBef>
                <a:spcPts val="3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ook Antiqua"/>
              </a:rPr>
              <a:t>For the 8-slot cRIO FRC I, slots 4 and 8 will now be unused. Slots 1-3 are in the same order as the cRIO FRC II, and Slots 5-7 are in the same order again (5: Analog, 6: Digital, 7: Solenoid). So you may have two of each type of module.</a:t>
            </a: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maller/Lighter = easier to place and meet weigh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creased memory/storage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Not noticeable running standard user program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etter advantage of NI software (ease-of-use, additional services)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Handle more complicated/efficient vision processing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lvl="1" marL="678960" indent="-2624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More room for on-board data logging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Power  down to 9v = easier benchtesting NOT for competition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roubleshooting steps change a little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82320" indent="-262800">
              <a:lnSpc>
                <a:spcPct val="8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0" y="1600200"/>
            <a:ext cx="914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FRC teams that were registered for the 2011 season may use the 2011 discount right away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that register for the 2012 season may use the 2012 discount starting Oct 3, 2011.  So, teams can use both the 2011 &amp; 2012 allocation at one tim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Registered FRC teams get one Discount Credit each calendar year to purchase (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all NI at 1-866-511-6285 to order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new cRIO FRC II kit (with 1 ea. 9201/9403/9472 modules)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$525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 new chassis only (no modules) </a:t>
            </a:r>
            <a:r>
              <a:rPr b="1" lang="en-US" sz="1800" spc="-1" strike="noStrike">
                <a:solidFill>
                  <a:srgbClr val="ffffff"/>
                </a:solidFill>
                <a:latin typeface="Book Antiqua"/>
              </a:rPr>
              <a:t>$285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(2) in any combination of both (1kit plus one chassis, 2 chassis-only, 2 kits) the items must be purchased in a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Book Antiqua"/>
              </a:rPr>
              <a:t>single ord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693360" indent="-267840">
              <a:lnSpc>
                <a:spcPct val="7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Individual modules: analog/solenoid $152, digital $174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9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eams may order additional cRIO FRC IIs at an educational price and individual modules at a slight discoun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he new cRIO FRC II may be ordered beginning Monday, Oct 3rd.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nitial deliveries will ship late November or early Decembe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90240" indent="-268200">
              <a:lnSpc>
                <a:spcPct val="7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Software for using/programming the new cRIO FRCII will not be available until kickoff.  Beta teams will be testing this software starting in September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1" descr="2012_cRIO_slots"/>
          <p:cNvPicPr/>
          <p:nvPr/>
        </p:nvPicPr>
        <p:blipFill>
          <a:blip r:embed="rId1"/>
          <a:stretch/>
        </p:blipFill>
        <p:spPr>
          <a:xfrm>
            <a:off x="5410080" y="2255760"/>
            <a:ext cx="3733920" cy="1814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4" descr="DLink-2"/>
          <p:cNvPicPr/>
          <p:nvPr/>
        </p:nvPicPr>
        <p:blipFill>
          <a:blip r:embed="rId2"/>
          <a:stretch/>
        </p:blipFill>
        <p:spPr>
          <a:xfrm>
            <a:off x="2209680" y="3581280"/>
            <a:ext cx="2160720" cy="965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1" name="Picture 29" descr=""/>
          <p:cNvPicPr/>
          <p:nvPr/>
        </p:nvPicPr>
        <p:blipFill>
          <a:blip r:embed="rId3"/>
          <a:stretch/>
        </p:blipFill>
        <p:spPr>
          <a:xfrm>
            <a:off x="2895480" y="4876920"/>
            <a:ext cx="2210040" cy="1773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8" descr=""/>
          <p:cNvPicPr/>
          <p:nvPr/>
        </p:nvPicPr>
        <p:blipFill>
          <a:blip r:embed="rId4"/>
          <a:stretch/>
        </p:blipFill>
        <p:spPr>
          <a:xfrm>
            <a:off x="2209680" y="1905120"/>
            <a:ext cx="901800" cy="134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3" name="Picture 26" descr=""/>
          <p:cNvPicPr/>
          <p:nvPr/>
        </p:nvPicPr>
        <p:blipFill>
          <a:blip r:embed="rId5"/>
          <a:stretch/>
        </p:blipFill>
        <p:spPr>
          <a:xfrm>
            <a:off x="3657600" y="1371600"/>
            <a:ext cx="878040" cy="14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4" name="Picture 25" descr=""/>
          <p:cNvPicPr/>
          <p:nvPr/>
        </p:nvPicPr>
        <p:blipFill>
          <a:blip r:embed="rId6"/>
          <a:stretch/>
        </p:blipFill>
        <p:spPr>
          <a:xfrm>
            <a:off x="76320" y="2666880"/>
            <a:ext cx="1881000" cy="1881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55" name="Title 1" descr=""/>
          <p:cNvPicPr/>
          <p:nvPr/>
        </p:nvPicPr>
        <p:blipFill>
          <a:blip r:embed="rId7"/>
          <a:stretch/>
        </p:blipFill>
        <p:spPr>
          <a:xfrm>
            <a:off x="378000" y="-165240"/>
            <a:ext cx="8242200" cy="1433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Team358.gif"/>
          <p:cNvPicPr/>
          <p:nvPr/>
        </p:nvPicPr>
        <p:blipFill>
          <a:blip r:embed="rId8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157" name="Straight Connector 19"/>
          <p:cNvSpPr/>
          <p:nvPr/>
        </p:nvSpPr>
        <p:spPr>
          <a:xfrm>
            <a:off x="1143000" y="4038480"/>
            <a:ext cx="1523880" cy="3049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21"/>
          <p:cNvSpPr/>
          <p:nvPr/>
        </p:nvSpPr>
        <p:spPr>
          <a:xfrm flipH="1" flipV="1">
            <a:off x="2742840" y="3123720"/>
            <a:ext cx="152280" cy="121932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 flipV="1">
            <a:off x="3048120" y="2742840"/>
            <a:ext cx="838080" cy="160020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35"/>
          <p:cNvSpPr/>
          <p:nvPr/>
        </p:nvSpPr>
        <p:spPr>
          <a:xfrm flipV="1">
            <a:off x="3276720" y="3733560"/>
            <a:ext cx="2895480" cy="685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46"/>
          <p:cNvSpPr/>
          <p:nvPr/>
        </p:nvSpPr>
        <p:spPr>
          <a:xfrm>
            <a:off x="4419720" y="2133720"/>
            <a:ext cx="1752480" cy="13716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&lt;i&gt;FIRST&lt;/i&gt; 2010 Luminary Micro Speed Controller"/>
          <p:cNvPicPr/>
          <p:nvPr/>
        </p:nvPicPr>
        <p:blipFill>
          <a:blip r:embed="rId9"/>
          <a:stretch/>
        </p:blipFill>
        <p:spPr>
          <a:xfrm>
            <a:off x="685800" y="5334120"/>
            <a:ext cx="1428840" cy="1218960"/>
          </a:xfrm>
          <a:prstGeom prst="rect">
            <a:avLst/>
          </a:prstGeom>
          <a:ln w="0">
            <a:noFill/>
          </a:ln>
        </p:spPr>
      </p:pic>
      <p:sp>
        <p:nvSpPr>
          <p:cNvPr id="163" name="Straight Connector 29"/>
          <p:cNvSpPr/>
          <p:nvPr/>
        </p:nvSpPr>
        <p:spPr>
          <a:xfrm>
            <a:off x="3276720" y="4419720"/>
            <a:ext cx="30456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traight Connector 60"/>
          <p:cNvSpPr/>
          <p:nvPr/>
        </p:nvSpPr>
        <p:spPr>
          <a:xfrm flipH="1">
            <a:off x="1447920" y="6019200"/>
            <a:ext cx="1676160" cy="759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13" descr="&lt;i&gt;FIRST&lt;/i&gt; 2010 Luminary Micro Speed Controller"/>
          <p:cNvPicPr/>
          <p:nvPr/>
        </p:nvPicPr>
        <p:blipFill>
          <a:blip r:embed="rId10"/>
          <a:stretch/>
        </p:blipFill>
        <p:spPr>
          <a:xfrm>
            <a:off x="4114800" y="2819520"/>
            <a:ext cx="895320" cy="7635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0"/>
          <p:cNvSpPr/>
          <p:nvPr/>
        </p:nvSpPr>
        <p:spPr>
          <a:xfrm>
            <a:off x="4528080" y="3368520"/>
            <a:ext cx="805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21"/>
          <p:cNvSpPr/>
          <p:nvPr/>
        </p:nvSpPr>
        <p:spPr>
          <a:xfrm>
            <a:off x="1676880" y="617220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AN opt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4"/>
          <p:cNvSpPr/>
          <p:nvPr/>
        </p:nvSpPr>
        <p:spPr>
          <a:xfrm>
            <a:off x="231120" y="449568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t teth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Straight Connector 46"/>
          <p:cNvSpPr/>
          <p:nvPr/>
        </p:nvSpPr>
        <p:spPr>
          <a:xfrm>
            <a:off x="4724280" y="3276720"/>
            <a:ext cx="106704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traight Connector 46"/>
          <p:cNvSpPr/>
          <p:nvPr/>
        </p:nvSpPr>
        <p:spPr>
          <a:xfrm>
            <a:off x="7620120" y="5791320"/>
            <a:ext cx="45720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traight Connector 60"/>
          <p:cNvSpPr/>
          <p:nvPr/>
        </p:nvSpPr>
        <p:spPr>
          <a:xfrm flipH="1">
            <a:off x="7620120" y="6172200"/>
            <a:ext cx="457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traight Connector 19"/>
          <p:cNvSpPr/>
          <p:nvPr/>
        </p:nvSpPr>
        <p:spPr>
          <a:xfrm>
            <a:off x="7620120" y="6553080"/>
            <a:ext cx="457200" cy="0"/>
          </a:xfrm>
          <a:prstGeom prst="line">
            <a:avLst/>
          </a:prstGeom>
          <a:ln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8155080" y="636732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8154360" y="6019920"/>
            <a:ext cx="8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C I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40"/>
          <p:cNvSpPr/>
          <p:nvPr/>
        </p:nvSpPr>
        <p:spPr>
          <a:xfrm>
            <a:off x="8154720" y="56386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C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traight Connector 46"/>
          <p:cNvSpPr/>
          <p:nvPr/>
        </p:nvSpPr>
        <p:spPr>
          <a:xfrm>
            <a:off x="7601040" y="5410080"/>
            <a:ext cx="457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7"/>
          <p:cNvSpPr/>
          <p:nvPr/>
        </p:nvSpPr>
        <p:spPr>
          <a:xfrm>
            <a:off x="8137080" y="5257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t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2" descr="2012_cRIO_slots"/>
          <p:cNvPicPr/>
          <p:nvPr/>
        </p:nvPicPr>
        <p:blipFill>
          <a:blip r:embed="rId1"/>
          <a:stretch/>
        </p:blipFill>
        <p:spPr>
          <a:xfrm>
            <a:off x="5181480" y="2514600"/>
            <a:ext cx="3733920" cy="1814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1" descr="12v5vConverter"/>
          <p:cNvPicPr/>
          <p:nvPr/>
        </p:nvPicPr>
        <p:blipFill>
          <a:blip r:embed="rId2"/>
          <a:stretch/>
        </p:blipFill>
        <p:spPr>
          <a:xfrm>
            <a:off x="3429000" y="5257800"/>
            <a:ext cx="609480" cy="609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0" name="Picture 30" descr="DSC"/>
          <p:cNvPicPr/>
          <p:nvPr/>
        </p:nvPicPr>
        <p:blipFill>
          <a:blip r:embed="rId3"/>
          <a:stretch/>
        </p:blipFill>
        <p:spPr>
          <a:xfrm>
            <a:off x="1066680" y="1523880"/>
            <a:ext cx="914400" cy="669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5" descr=""/>
          <p:cNvPicPr/>
          <p:nvPr/>
        </p:nvPicPr>
        <p:blipFill>
          <a:blip r:embed="rId4"/>
          <a:stretch/>
        </p:blipFill>
        <p:spPr>
          <a:xfrm>
            <a:off x="5715000" y="4876920"/>
            <a:ext cx="2209680" cy="1773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4" descr="DLink-2"/>
          <p:cNvPicPr/>
          <p:nvPr/>
        </p:nvPicPr>
        <p:blipFill>
          <a:blip r:embed="rId5"/>
          <a:stretch/>
        </p:blipFill>
        <p:spPr>
          <a:xfrm>
            <a:off x="2460600" y="6172200"/>
            <a:ext cx="1273320" cy="568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152280" y="3962520"/>
            <a:ext cx="1020960" cy="1633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4" name="Picture 3" descr=""/>
          <p:cNvPicPr/>
          <p:nvPr/>
        </p:nvPicPr>
        <p:blipFill>
          <a:blip r:embed="rId7"/>
          <a:stretch/>
        </p:blipFill>
        <p:spPr>
          <a:xfrm>
            <a:off x="1727280" y="2530440"/>
            <a:ext cx="1595520" cy="2006640"/>
          </a:xfrm>
          <a:prstGeom prst="rect">
            <a:avLst/>
          </a:prstGeom>
          <a:ln w="0">
            <a:noFill/>
          </a:ln>
        </p:spPr>
      </p:pic>
      <p:pic>
        <p:nvPicPr>
          <p:cNvPr id="185" name="Title 1" descr=""/>
          <p:cNvPicPr/>
          <p:nvPr/>
        </p:nvPicPr>
        <p:blipFill>
          <a:blip r:embed="rId8"/>
          <a:stretch/>
        </p:blipFill>
        <p:spPr>
          <a:xfrm>
            <a:off x="457200" y="152280"/>
            <a:ext cx="8242200" cy="143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Team358.gif"/>
          <p:cNvPicPr/>
          <p:nvPr/>
        </p:nvPicPr>
        <p:blipFill>
          <a:blip r:embed="rId9"/>
          <a:stretch/>
        </p:blipFill>
        <p:spPr>
          <a:xfrm>
            <a:off x="7713720" y="0"/>
            <a:ext cx="1430280" cy="836640"/>
          </a:xfrm>
          <a:prstGeom prst="rect">
            <a:avLst/>
          </a:prstGeom>
          <a:ln w="0">
            <a:noFill/>
          </a:ln>
        </p:spPr>
      </p:pic>
      <p:sp>
        <p:nvSpPr>
          <p:cNvPr id="187" name="Straight Connector 29"/>
          <p:cNvSpPr/>
          <p:nvPr/>
        </p:nvSpPr>
        <p:spPr>
          <a:xfrm>
            <a:off x="3098880" y="3673440"/>
            <a:ext cx="2997000" cy="257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traight Connector 23"/>
          <p:cNvSpPr/>
          <p:nvPr/>
        </p:nvSpPr>
        <p:spPr>
          <a:xfrm>
            <a:off x="3098880" y="3673440"/>
            <a:ext cx="2235240" cy="212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30"/>
          <p:cNvSpPr/>
          <p:nvPr/>
        </p:nvSpPr>
        <p:spPr>
          <a:xfrm>
            <a:off x="1905120" y="1981080"/>
            <a:ext cx="38088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34"/>
          <p:cNvSpPr/>
          <p:nvPr/>
        </p:nvSpPr>
        <p:spPr>
          <a:xfrm flipV="1">
            <a:off x="3504600" y="5866920"/>
            <a:ext cx="228600" cy="76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40"/>
          <p:cNvSpPr/>
          <p:nvPr/>
        </p:nvSpPr>
        <p:spPr>
          <a:xfrm>
            <a:off x="2971800" y="4114800"/>
            <a:ext cx="83808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42"/>
          <p:cNvSpPr/>
          <p:nvPr/>
        </p:nvSpPr>
        <p:spPr>
          <a:xfrm flipH="1" flipV="1">
            <a:off x="2514600" y="2666520"/>
            <a:ext cx="3581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45"/>
          <p:cNvSpPr/>
          <p:nvPr/>
        </p:nvSpPr>
        <p:spPr>
          <a:xfrm>
            <a:off x="2743200" y="2819520"/>
            <a:ext cx="41911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traight Connector 56"/>
          <p:cNvSpPr/>
          <p:nvPr/>
        </p:nvSpPr>
        <p:spPr>
          <a:xfrm flipV="1">
            <a:off x="990720" y="3200040"/>
            <a:ext cx="205740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Straight Connector 35"/>
          <p:cNvSpPr/>
          <p:nvPr/>
        </p:nvSpPr>
        <p:spPr>
          <a:xfrm flipV="1">
            <a:off x="3124080" y="2971440"/>
            <a:ext cx="381024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504960" y="3124080"/>
            <a:ext cx="118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ptional 24v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23"/>
          <p:cNvSpPr/>
          <p:nvPr/>
        </p:nvSpPr>
        <p:spPr>
          <a:xfrm>
            <a:off x="5940360" y="42670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Note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 slot configur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1T19:08:01Z</dcterms:created>
  <dc:creator>Mark McLeod</dc:creator>
  <dc:description/>
  <dc:language>en-US</dc:language>
  <cp:lastModifiedBy>mcleoma</cp:lastModifiedBy>
  <dcterms:modified xsi:type="dcterms:W3CDTF">2013-07-22T18:30:12Z</dcterms:modified>
  <cp:revision>214</cp:revision>
  <dc:subject/>
  <dc:title>cRIO FRC II</dc:title>
</cp:coreProperties>
</file>