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png" ContentType="image/png"/>
  <Override PartName="/ppt/media/image28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A6C-6C84-4D8F-AB50-D9ED35A4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0AF-BC3A-4A05-B3C3-77C79029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8CD-405B-4CC2-8F43-296BD427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3FA-FB5A-49BE-AC61-F6517A92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A6F3-EFFE-4574-A90E-B5FDDE46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C9BD-F719-4B6F-90B6-7548024A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814A-1E43-471A-B01D-1017545B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F520-D527-4A42-AEF0-65D79AAC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8A84-DF1D-47C0-8819-A78D9CC8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2472-80CD-42DB-AF62-D9116242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3143-C577-4F25-A0CC-3207F55B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B04-D07E-4780-A463-07196245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01DB-E2E0-44F4-9A0E-DF5DBB43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0AA9-F157-4DF7-BAC6-082558A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ACA3-A93F-4D57-A035-66065875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4B03-079C-46B7-83C4-4D0CC962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70DF-5350-4E74-8B19-C8A2FB53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425D-9ACB-4690-82FD-6EF08916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8987-6E9B-4B53-9F75-CB8DF333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E0E3-6550-4274-862E-BA680797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5730-B71B-4F19-B27E-A20CCEA0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333B9-682E-4A05-B35F-58535DD0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413-1693-4C0E-A948-A09BB16C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01FF9-A7A7-4E86-BC53-35BD189C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0688-ACA3-4E2E-A31B-AB81D89A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4ADB-46C5-4340-8093-E4C69E0E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C5D2-133B-4895-9611-2A1FA00F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AF95-D475-4F0D-9804-4FE82C8B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4254F-9AC7-4A30-9135-99A01359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18624-D828-4F98-B877-EC3C1F22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CE6-55FD-459A-BE03-FCE5DE30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E13-6782-4CE3-B1AF-3E3AB8AA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CD2-9240-4CAA-AC3D-8B9054FB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402-DA20-491C-9633-3B120305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B4E-40C7-4A42-B7C0-A2074BF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6F7-07E0-48C8-973E-C86E9C91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F48A-7C27-4FD2-A0EA-BE6BF9B222BD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Team358.gif"/>
          <p:cNvPicPr/>
          <p:nvPr/>
        </p:nvPicPr>
        <p:blipFill>
          <a:blip r:embed="rId3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D188-D017-40C1-9D76-0B87C32B8871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E022-73BE-445F-81FA-FE7E7C54865F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5.png"/><Relationship Id="rId5" Type="http://schemas.openxmlformats.org/officeDocument/2006/relationships/image" Target="../media/image14.jpe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012 Control System Cha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Version 3j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/4/12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3" descr="Team358.gif"/>
          <p:cNvPicPr/>
          <p:nvPr/>
        </p:nvPicPr>
        <p:blipFill>
          <a:blip r:embed="rId2"/>
          <a:stretch/>
        </p:blipFill>
        <p:spPr>
          <a:xfrm>
            <a:off x="3780000" y="4653000"/>
            <a:ext cx="1430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o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s on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digital in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git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s &amp;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WM, Digital I/O, I2C, Relay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solenoid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en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utputs on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power sensors via protected 24v sour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digital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057760" y="228600"/>
            <a:ext cx="48394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967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b966"/>
                </a:solidFill>
                <a:latin typeface="Arial"/>
              </a:rPr>
              <a:t>Module Tradeof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FPGAphoto"/>
          <p:cNvPicPr/>
          <p:nvPr/>
        </p:nvPicPr>
        <p:blipFill>
          <a:blip r:embed="rId1"/>
          <a:stretch/>
        </p:blipFill>
        <p:spPr>
          <a:xfrm>
            <a:off x="7315200" y="1600200"/>
            <a:ext cx="1828800" cy="1560600"/>
          </a:xfrm>
          <a:prstGeom prst="rect">
            <a:avLst/>
          </a:prstGeom>
          <a:ln w="0">
            <a:noFill/>
          </a:ln>
        </p:spPr>
      </p:pic>
      <p:pic>
        <p:nvPicPr>
          <p:cNvPr id="201" name="Title 1" descr=""/>
          <p:cNvPicPr/>
          <p:nvPr/>
        </p:nvPicPr>
        <p:blipFill>
          <a:blip r:embed="rId2"/>
          <a:stretch/>
        </p:blipFill>
        <p:spPr>
          <a:xfrm>
            <a:off x="457200" y="-139680"/>
            <a:ext cx="8242200" cy="1432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eld Programmable Gate Arra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uge collection of yes/no &amp; sequential logic blocks in a massive routing gri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ogic cells combine multiple inputs in boolean way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lip-flops &amp; registers are used for sequential logic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ll connected by reconfigurable wires via programmable switch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eld Programmable just means the function of the board is defined by our program image, not when the hardware is ma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t trades custom chip efficiency (size, power, performance), e.g., cell phone,  for adaptability and different cost factors, e.g., cell phone base station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here are FPGAs found around the house?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udio/Video (signal processing) - PC, TV, entertainment system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utomotive infotainment system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ireless base stations keeping up with rapidly evolving cell phone featur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0" y="1219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 a computer processor like a Pentium or Power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ort of a generic reconfigurable custom digital (not analog) circ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gramming it is like doing a circuit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RC uses it for super fast data input collection and 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ams do not touch it directly, only download updated FRC im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228600" y="1981080"/>
            <a:ext cx="396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RIO FRC II adds a protective  conformal coating to the electronics helping to guard against metal dust and fragments that work their way into the case from shorting out the circu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iginal cRIO FRC had user installable gaskets that many teams never used or even knew what they were f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G:\FIRST\Technical\ControlSystemPost2009\cRIO FRC II\ConformalCoating2.jpg"/>
          <p:cNvPicPr/>
          <p:nvPr/>
        </p:nvPicPr>
        <p:blipFill>
          <a:blip r:embed="rId2"/>
          <a:stretch/>
        </p:blipFill>
        <p:spPr>
          <a:xfrm>
            <a:off x="4191120" y="1523880"/>
            <a:ext cx="4632120" cy="267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G:\FIRST\Technical\ControlSystemPost2009\cRIO FRC II\cRIOgaskets.jpg"/>
          <p:cNvPicPr/>
          <p:nvPr/>
        </p:nvPicPr>
        <p:blipFill>
          <a:blip r:embed="rId3"/>
          <a:stretch/>
        </p:blipFill>
        <p:spPr>
          <a:xfrm>
            <a:off x="1676520" y="5029200"/>
            <a:ext cx="2781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76320" y="2590920"/>
            <a:ext cx="9067680" cy="256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-9074 (old) : http://sine.ni.com/nips/cds/view/p/lang/en/nid/2039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-9076 (new-similar) : http://sine.ni.com/nips/cds/view/p/lang/en/nid/2097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 9075/9076 Specs: http://www.ni.com/pdf/manuals/375650a.pd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ison Tables: http://sine.ni.com/ds/app/doc/p/id/ds-204/lang/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scale Processor Co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C II: http://cache.freescale.com/files/32bit/doc/ref_manual/e300coreRM.pd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C I: http://www.iuma.ulpgc.es/~nunez/clases-sed-mai-68ppc/powerpc_MPC603EUM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Team358.gif"/>
          <p:cNvPicPr/>
          <p:nvPr/>
        </p:nvPicPr>
        <p:blipFill>
          <a:blip r:embed="rId2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2280960" y="5229360"/>
            <a:ext cx="514404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J Regional NI Survey of extra modules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% of teams (5) used an extra Digital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% of teams (2) used an extra Analog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% of teams (2) used an extra Solenoid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613440" y="6488280"/>
            <a:ext cx="52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Photo credit for new cRIO FRC II- Arthur Dutra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543960" y="1371600"/>
            <a:ext cx="7392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ranty on cRIO units are 3-years from the day the unit ships from 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 FRC 2 cRIO FAQ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s://decibel.ni.com/content/docs/DOC-191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51920" y="12189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dules &amp; breakou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ut old module slot positions have chang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gramming-LV,C++,Jav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PILib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light modifications to make it easier to write portable code between the four and eight slot controller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PG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del is new, but the FRC design circuit (hence behavior) will be the same for both cRIO FRC I&amp;II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wered for competition via the protected 24v output on the Power Distribution Pan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ranty is 3-years from the NI ship d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4" descr="sm_AnalogModule.jpg"/>
          <p:cNvPicPr/>
          <p:nvPr/>
        </p:nvPicPr>
        <p:blipFill>
          <a:blip r:embed="rId2"/>
          <a:stretch/>
        </p:blipFill>
        <p:spPr>
          <a:xfrm>
            <a:off x="6705720" y="990720"/>
            <a:ext cx="2084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0" y="990720"/>
            <a:ext cx="9144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ardwar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alf the slots (4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(1) each: analog/digital/solenoid module, plus one extra of the thre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4.4” shorter in length, same height &amp; width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~two thirds the weight –new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chassi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alone is 1.42 lbs vs. original’s 2.05 lb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ew conformal coating to minimize damage from metal dust and bits and piec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st/Feature Optimized Between cRIO-9075 and cRIO-9076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rocessor-2x cache/memory bandwidth (2008 upgrade of the 2003 architecture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ncreased Capability (Doubled from FRC I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963360" indent="-19404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torage (512MB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2" marL="963360" indent="-19404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ystem memory (256MB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 External DIP switch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963360" indent="-19404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ame services performed by cRIO Imaging Tool or SAFE MODE via hold Reset button for 5 sec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(1) Ethernet port – cameras get connected to and accessed from the DLink for processing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wer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wo-wire connector (new one can fit the older cRIO, but old 4-wire does not fit new cRIO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9-30v (vs old 19-30v)  operating voltage-24v recommende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5W vs old 20W max power consumption (w/full set of the most power hungry modules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RIO II has no internal battery to preserve the date/time during off stat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0" y="914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4320" indent="-3409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54320" indent="-3409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I Software Install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sion - Since the older cRIO has half the memory, and since the vision module has grown substantially in recent LabVIEW releases, the imaging tool installs a simplified version on the 8 slo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76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Smaller, stripped down, version of the Vision package (IMAQ) on the 8-slot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76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The complete edition is installed on the 4-slot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features that were removed in the older cRIO FRC I were QR codes, meter reading, OCR, and other instrumentation and inspection features. Another beefy feature that we thought was not needed was the calibratio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54320" indent="-3409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IO Image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till a single image zip will apply to both cRIO FRC I&amp;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Will handle cRIO FRC I&amp;II differences invisibly by extracting the appropriated files from the image zip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Provide virtual DIP switch controls for cRIO FRC 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Help validate modules are in the correct slots for both FRC I &amp; FRC 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5726520" y="162864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LD (2009-2011)-cRIO FRC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685120" y="391320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EW (2012)-cRIO FRC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2205000"/>
          <a:ext cx="4824360" cy="3794040"/>
        </p:xfrm>
        <a:graphic>
          <a:graphicData uri="http://schemas.openxmlformats.org/drawingml/2006/table">
            <a:tbl>
              <a:tblPr/>
              <a:tblGrid>
                <a:gridCol w="1336680"/>
                <a:gridCol w="1643040"/>
                <a:gridCol w="184464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C cRIO Version Compari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 FRC II (201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C I (2009-201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O 9075/90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O 9072/90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slo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(+2 unusabl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-2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s-chas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”(l) x 3.5”(w) x 2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h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4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l) x 3.5”(w) x 2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-chas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2 lb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5 lb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ng Volt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-30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-30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Mem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 Mem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scale MPC51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scale MPC5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ata/instr cach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KB/32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KB/16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P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partan-6 LX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partan-3 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8 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 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logic ce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6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0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multipli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IO transfer 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Gb/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2 Mb/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10" descr="Team358.gif"/>
          <p:cNvPicPr/>
          <p:nvPr/>
        </p:nvPicPr>
        <p:blipFill>
          <a:blip r:embed="rId2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90"/>
          <p:cNvGrpSpPr/>
          <p:nvPr/>
        </p:nvGrpSpPr>
        <p:grpSpPr>
          <a:xfrm>
            <a:off x="5618160" y="4251240"/>
            <a:ext cx="2514600" cy="2057400"/>
            <a:chOff x="5618160" y="4251240"/>
            <a:chExt cx="2514600" cy="2057400"/>
          </a:xfrm>
        </p:grpSpPr>
        <p:sp>
          <p:nvSpPr>
            <p:cNvPr id="140" name="Rectangle 1088"/>
            <p:cNvSpPr/>
            <p:nvPr/>
          </p:nvSpPr>
          <p:spPr>
            <a:xfrm>
              <a:off x="5618160" y="4251240"/>
              <a:ext cx="2514600" cy="205740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1" name="Picture 88" descr="cRIO-FRC-II"/>
            <p:cNvPicPr/>
            <p:nvPr/>
          </p:nvPicPr>
          <p:blipFill>
            <a:blip r:embed="rId3"/>
            <a:stretch/>
          </p:blipFill>
          <p:spPr>
            <a:xfrm>
              <a:off x="5715000" y="4343400"/>
              <a:ext cx="2362320" cy="18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ectangle 1089"/>
          <p:cNvSpPr/>
          <p:nvPr/>
        </p:nvSpPr>
        <p:spPr>
          <a:xfrm>
            <a:off x="5486400" y="2057400"/>
            <a:ext cx="2971800" cy="15238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9"/>
          <p:cNvSpPr/>
          <p:nvPr/>
        </p:nvSpPr>
        <p:spPr>
          <a:xfrm>
            <a:off x="6000840" y="351936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te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slot configu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0" descr="sm_FRC-cRIO-Modules"/>
          <p:cNvPicPr/>
          <p:nvPr/>
        </p:nvPicPr>
        <p:blipFill>
          <a:blip r:embed="rId4"/>
          <a:stretch/>
        </p:blipFill>
        <p:spPr>
          <a:xfrm>
            <a:off x="5562720" y="2133720"/>
            <a:ext cx="27972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317520" y="109440"/>
            <a:ext cx="8240760" cy="1433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can choose to use either cRIO FRC I or FRC II for the 2012 ga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RIO FRC II will not be useable until the 2012 Kickoff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riginal cRIO FRC I no longer available for purchase after 9/30/11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27000" indent="-262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t will continue to be supported by NI tech support 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w conformal coating means less damage from metal dust and fragment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slots lost = less potential capabil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ut only affects maybe 5% of teams in one way or another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spcBef>
                <a:spcPts val="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Slots 1-3 on the cRIO FRC II are, in order, 1:Analog, 2:Digital, 3:Solenoid. Slot 4 on the cRIO FRC II will be a "wildcard" and one extra Analog, Digital, or Solenoid module may be used.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spcBef>
                <a:spcPts val="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or the 8-slot cRIO FRC I, slots 4 and 8 will now be unused. Slots 1-3 are in the same order as the cRIO FRC II, and Slots 5-7 are in the same order again (5: Analog, 6: Digital, 7: Solenoid). So you may have two of each type of module.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maller/Lighter = easier to place and meet weigh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reased memory/storag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Not noticeable running standard user program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etter advantage of NI software (ease-of-use, additional services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Handle more complicated/efficient vision processing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More room for on-board data logging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ower  down to 9v = easier benchtesting NOT for competi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roubleshooting steps change a litt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RC teams that were registered for the 2011 season may use the 2011 discount right away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that register for the 2012 season may use the 2012 discount starting Oct 3, 2011.  So, teams can use both the 2011 &amp; 2012 allocation at one tim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gistered FRC teams get one Discount Credit each calendar year to purchase (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ll NI at 1-866-511-6285 to order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new cRIO FRC II kit (with 1 ea. 9201/9403/9472 modules)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$525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new chassis only (no modules)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$285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2) in any combination of both (1kit plus one chassis, 2 chassis-only, 2 kits) the items must be purchased in 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single ord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dividual modules: analog/solenoid $152, digital $174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may order additional cRIO FRC IIs at an educational price and individual modules at a slight discoun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new cRIO FRC II may be ordered beginning Monday, Oct 3rd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itial deliveries will ship late November or early Decemb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oftware for using/programming the new cRIO FRCII will not be available until kickoff.  Beta teams will be testing this software starting in Septemb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1" descr="2012_cRIO_slots"/>
          <p:cNvPicPr/>
          <p:nvPr/>
        </p:nvPicPr>
        <p:blipFill>
          <a:blip r:embed="rId1"/>
          <a:stretch/>
        </p:blipFill>
        <p:spPr>
          <a:xfrm>
            <a:off x="5410080" y="2255760"/>
            <a:ext cx="3733920" cy="181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4" descr="DLink-2"/>
          <p:cNvPicPr/>
          <p:nvPr/>
        </p:nvPicPr>
        <p:blipFill>
          <a:blip r:embed="rId2"/>
          <a:stretch/>
        </p:blipFill>
        <p:spPr>
          <a:xfrm>
            <a:off x="2209680" y="3581280"/>
            <a:ext cx="2160720" cy="96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Picture 29" descr=""/>
          <p:cNvPicPr/>
          <p:nvPr/>
        </p:nvPicPr>
        <p:blipFill>
          <a:blip r:embed="rId3"/>
          <a:stretch/>
        </p:blipFill>
        <p:spPr>
          <a:xfrm>
            <a:off x="2895480" y="4876920"/>
            <a:ext cx="2210040" cy="177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8" descr=""/>
          <p:cNvPicPr/>
          <p:nvPr/>
        </p:nvPicPr>
        <p:blipFill>
          <a:blip r:embed="rId4"/>
          <a:stretch/>
        </p:blipFill>
        <p:spPr>
          <a:xfrm>
            <a:off x="2209680" y="1905120"/>
            <a:ext cx="901800" cy="134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3" name="Picture 26" descr=""/>
          <p:cNvPicPr/>
          <p:nvPr/>
        </p:nvPicPr>
        <p:blipFill>
          <a:blip r:embed="rId5"/>
          <a:stretch/>
        </p:blipFill>
        <p:spPr>
          <a:xfrm>
            <a:off x="3657600" y="1371600"/>
            <a:ext cx="878040" cy="14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4" name="Picture 25" descr=""/>
          <p:cNvPicPr/>
          <p:nvPr/>
        </p:nvPicPr>
        <p:blipFill>
          <a:blip r:embed="rId6"/>
          <a:stretch/>
        </p:blipFill>
        <p:spPr>
          <a:xfrm>
            <a:off x="76320" y="2666880"/>
            <a:ext cx="1881000" cy="188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Title 1" descr=""/>
          <p:cNvPicPr/>
          <p:nvPr/>
        </p:nvPicPr>
        <p:blipFill>
          <a:blip r:embed="rId7"/>
          <a:stretch/>
        </p:blipFill>
        <p:spPr>
          <a:xfrm>
            <a:off x="378000" y="-165240"/>
            <a:ext cx="8242200" cy="1433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Team358.gif"/>
          <p:cNvPicPr/>
          <p:nvPr/>
        </p:nvPicPr>
        <p:blipFill>
          <a:blip r:embed="rId8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Straight Connector 19"/>
          <p:cNvSpPr/>
          <p:nvPr/>
        </p:nvSpPr>
        <p:spPr>
          <a:xfrm>
            <a:off x="1143000" y="4038480"/>
            <a:ext cx="1523880" cy="3049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1"/>
          <p:cNvSpPr/>
          <p:nvPr/>
        </p:nvSpPr>
        <p:spPr>
          <a:xfrm flipH="1" flipV="1">
            <a:off x="2742840" y="3123720"/>
            <a:ext cx="152280" cy="12193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 flipV="1">
            <a:off x="3048120" y="2742840"/>
            <a:ext cx="838080" cy="16002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35"/>
          <p:cNvSpPr/>
          <p:nvPr/>
        </p:nvSpPr>
        <p:spPr>
          <a:xfrm flipV="1">
            <a:off x="3276720" y="3733560"/>
            <a:ext cx="2895480" cy="685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46"/>
          <p:cNvSpPr/>
          <p:nvPr/>
        </p:nvSpPr>
        <p:spPr>
          <a:xfrm>
            <a:off x="4419720" y="2133720"/>
            <a:ext cx="1752480" cy="1371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&lt;i&gt;FIRST&lt;/i&gt; 2010 Luminary Micro Speed Controller"/>
          <p:cNvPicPr/>
          <p:nvPr/>
        </p:nvPicPr>
        <p:blipFill>
          <a:blip r:embed="rId9"/>
          <a:stretch/>
        </p:blipFill>
        <p:spPr>
          <a:xfrm>
            <a:off x="685800" y="5334120"/>
            <a:ext cx="1428840" cy="1218960"/>
          </a:xfrm>
          <a:prstGeom prst="rect">
            <a:avLst/>
          </a:prstGeom>
          <a:ln w="0">
            <a:noFill/>
          </a:ln>
        </p:spPr>
      </p:pic>
      <p:sp>
        <p:nvSpPr>
          <p:cNvPr id="163" name="Straight Connector 29"/>
          <p:cNvSpPr/>
          <p:nvPr/>
        </p:nvSpPr>
        <p:spPr>
          <a:xfrm>
            <a:off x="3276720" y="4419720"/>
            <a:ext cx="30456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traight Connector 60"/>
          <p:cNvSpPr/>
          <p:nvPr/>
        </p:nvSpPr>
        <p:spPr>
          <a:xfrm flipH="1">
            <a:off x="1447920" y="6019200"/>
            <a:ext cx="1676160" cy="75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3" descr="&lt;i&gt;FIRST&lt;/i&gt; 2010 Luminary Micro Speed Controller"/>
          <p:cNvPicPr/>
          <p:nvPr/>
        </p:nvPicPr>
        <p:blipFill>
          <a:blip r:embed="rId10"/>
          <a:stretch/>
        </p:blipFill>
        <p:spPr>
          <a:xfrm>
            <a:off x="4114800" y="2819520"/>
            <a:ext cx="895320" cy="763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4528080" y="3368520"/>
            <a:ext cx="8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676880" y="617220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o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231120" y="44956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t teth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46"/>
          <p:cNvSpPr/>
          <p:nvPr/>
        </p:nvSpPr>
        <p:spPr>
          <a:xfrm>
            <a:off x="4724280" y="3276720"/>
            <a:ext cx="106704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46"/>
          <p:cNvSpPr/>
          <p:nvPr/>
        </p:nvSpPr>
        <p:spPr>
          <a:xfrm>
            <a:off x="7620120" y="5791320"/>
            <a:ext cx="45720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60"/>
          <p:cNvSpPr/>
          <p:nvPr/>
        </p:nvSpPr>
        <p:spPr>
          <a:xfrm flipH="1">
            <a:off x="7620120" y="6172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traight Connector 19"/>
          <p:cNvSpPr/>
          <p:nvPr/>
        </p:nvSpPr>
        <p:spPr>
          <a:xfrm>
            <a:off x="7620120" y="6553080"/>
            <a:ext cx="4572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8155080" y="6367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8154360" y="6019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C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8154720" y="56386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C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traight Connector 46"/>
          <p:cNvSpPr/>
          <p:nvPr/>
        </p:nvSpPr>
        <p:spPr>
          <a:xfrm>
            <a:off x="7601040" y="541008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137080" y="5257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2" descr="2012_cRIO_slots"/>
          <p:cNvPicPr/>
          <p:nvPr/>
        </p:nvPicPr>
        <p:blipFill>
          <a:blip r:embed="rId1"/>
          <a:stretch/>
        </p:blipFill>
        <p:spPr>
          <a:xfrm>
            <a:off x="5181480" y="2514600"/>
            <a:ext cx="3733920" cy="1814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12v5vConverter"/>
          <p:cNvPicPr/>
          <p:nvPr/>
        </p:nvPicPr>
        <p:blipFill>
          <a:blip r:embed="rId2"/>
          <a:stretch/>
        </p:blipFill>
        <p:spPr>
          <a:xfrm>
            <a:off x="3429000" y="5257800"/>
            <a:ext cx="609480" cy="60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0" name="Picture 30" descr="DSC"/>
          <p:cNvPicPr/>
          <p:nvPr/>
        </p:nvPicPr>
        <p:blipFill>
          <a:blip r:embed="rId3"/>
          <a:stretch/>
        </p:blipFill>
        <p:spPr>
          <a:xfrm>
            <a:off x="1066680" y="152388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5" descr=""/>
          <p:cNvPicPr/>
          <p:nvPr/>
        </p:nvPicPr>
        <p:blipFill>
          <a:blip r:embed="rId4"/>
          <a:stretch/>
        </p:blipFill>
        <p:spPr>
          <a:xfrm>
            <a:off x="5715000" y="4876920"/>
            <a:ext cx="2209680" cy="177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DLink-2"/>
          <p:cNvPicPr/>
          <p:nvPr/>
        </p:nvPicPr>
        <p:blipFill>
          <a:blip r:embed="rId5"/>
          <a:stretch/>
        </p:blipFill>
        <p:spPr>
          <a:xfrm>
            <a:off x="2460600" y="6172200"/>
            <a:ext cx="1273320" cy="56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1020960" cy="163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3" descr=""/>
          <p:cNvPicPr/>
          <p:nvPr/>
        </p:nvPicPr>
        <p:blipFill>
          <a:blip r:embed="rId7"/>
          <a:stretch/>
        </p:blipFill>
        <p:spPr>
          <a:xfrm>
            <a:off x="1727280" y="2530440"/>
            <a:ext cx="1595520" cy="2006640"/>
          </a:xfrm>
          <a:prstGeom prst="rect">
            <a:avLst/>
          </a:prstGeom>
          <a:ln w="0">
            <a:noFill/>
          </a:ln>
        </p:spPr>
      </p:pic>
      <p:pic>
        <p:nvPicPr>
          <p:cNvPr id="185" name="Title 1" descr=""/>
          <p:cNvPicPr/>
          <p:nvPr/>
        </p:nvPicPr>
        <p:blipFill>
          <a:blip r:embed="rId8"/>
          <a:stretch/>
        </p:blipFill>
        <p:spPr>
          <a:xfrm>
            <a:off x="457200" y="152280"/>
            <a:ext cx="8242200" cy="143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Team358.gif"/>
          <p:cNvPicPr/>
          <p:nvPr/>
        </p:nvPicPr>
        <p:blipFill>
          <a:blip r:embed="rId9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187" name="Straight Connector 29"/>
          <p:cNvSpPr/>
          <p:nvPr/>
        </p:nvSpPr>
        <p:spPr>
          <a:xfrm>
            <a:off x="3098880" y="3673440"/>
            <a:ext cx="2997000" cy="257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23"/>
          <p:cNvSpPr/>
          <p:nvPr/>
        </p:nvSpPr>
        <p:spPr>
          <a:xfrm>
            <a:off x="3098880" y="3673440"/>
            <a:ext cx="2235240" cy="212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30"/>
          <p:cNvSpPr/>
          <p:nvPr/>
        </p:nvSpPr>
        <p:spPr>
          <a:xfrm>
            <a:off x="1905120" y="1981080"/>
            <a:ext cx="38088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34"/>
          <p:cNvSpPr/>
          <p:nvPr/>
        </p:nvSpPr>
        <p:spPr>
          <a:xfrm flipV="1">
            <a:off x="3504600" y="5866920"/>
            <a:ext cx="22860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40"/>
          <p:cNvSpPr/>
          <p:nvPr/>
        </p:nvSpPr>
        <p:spPr>
          <a:xfrm>
            <a:off x="2971800" y="4114800"/>
            <a:ext cx="83808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42"/>
          <p:cNvSpPr/>
          <p:nvPr/>
        </p:nvSpPr>
        <p:spPr>
          <a:xfrm flipH="1" flipV="1">
            <a:off x="2514600" y="2666520"/>
            <a:ext cx="3581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45"/>
          <p:cNvSpPr/>
          <p:nvPr/>
        </p:nvSpPr>
        <p:spPr>
          <a:xfrm>
            <a:off x="2743200" y="2819520"/>
            <a:ext cx="41911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traight Connector 56"/>
          <p:cNvSpPr/>
          <p:nvPr/>
        </p:nvSpPr>
        <p:spPr>
          <a:xfrm flipV="1">
            <a:off x="990720" y="3200040"/>
            <a:ext cx="205740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traight Connector 35"/>
          <p:cNvSpPr/>
          <p:nvPr/>
        </p:nvSpPr>
        <p:spPr>
          <a:xfrm flipV="1">
            <a:off x="3124080" y="2971440"/>
            <a:ext cx="381024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504960" y="31240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onal 24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5940360" y="42670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te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slot configu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9:08:01Z</dcterms:created>
  <dc:creator>Mark McLeod</dc:creator>
  <dc:description/>
  <dc:language>en-US</dc:language>
  <cp:lastModifiedBy>mcleoma</cp:lastModifiedBy>
  <dcterms:modified xsi:type="dcterms:W3CDTF">2013-07-22T18:30:12Z</dcterms:modified>
  <cp:revision>214</cp:revision>
  <dc:subject/>
  <dc:title>cRIO FRC II</dc:title>
</cp:coreProperties>
</file>